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24B-0423-40CD-B18E-AE12DEED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066-200A-4F5C-B23E-CA3D6282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C5F-5CAB-48ED-9479-CC4B4278B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9D8-D295-4E4A-B1E4-368B4E18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126-7E4A-4320-8868-2506B72C5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F5EA-A4D7-4F28-89FB-308640E0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93D-6B8B-40CD-94AB-76F794E4C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7EB-0382-4563-AB8F-20C42A96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E832-7C39-4057-A415-5289E1053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994-06DA-4775-8F50-1BE282B9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0FC0-AC57-42B5-AA01-DE5E6A596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3BC-59B4-4E3A-9FE0-A586EFD6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FEDF-8652-42FA-B9CD-046F9EA68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28E-66BF-471A-BE08-FD0BA8D7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554-1D43-4449-BD7B-8C43A742B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61D3-A4C9-4506-AE00-17DB43A5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8F82-EAF9-4382-AC20-9ABCE1678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6A84-427C-462F-825D-3EEA5BF3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3F7-F10C-4FF8-B1EB-D346493E5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F2C-F12F-4046-AB4F-A192A6E3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FB3-1D1C-4E62-9CC2-FF91A07ED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FB1-352A-4AEB-B9CD-EA6F8BA1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6DB-A905-43A3-ACFA-A0DE1D323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F08-F258-469E-BC46-8D2620A2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F35-0FDC-4AD1-8561-72ED15C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550-74EB-4883-8B82-6239E22C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E54-E24E-43B5-9E05-F5A8941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430-7B01-4735-AE35-753DFC0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422-58EE-4C2B-ABCB-009FF4A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4C2-71B6-43D5-9588-015A51E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C5B-BBA2-449F-98D8-94614637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C8E-FAFB-4674-8B01-DC433E5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BE3-B905-410D-8776-0CD8E524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64C-DE73-45C7-9BEC-9A55A09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0AF-3494-4432-848B-EED913F4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262E-A686-4071-BA1C-AC6C8618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1EB6-B19F-4D9A-8457-1C3D62F33EB2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5F1-90E5-4DA4-959B-49CFD62D5B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ch1_cytoskeleton.jpg"/>
          <p:cNvPicPr/>
          <p:nvPr/>
        </p:nvPicPr>
        <p:blipFill>
          <a:blip r:embed="rId1"/>
          <a:stretch/>
        </p:blipFill>
        <p:spPr>
          <a:xfrm>
            <a:off x="5873760" y="4743360"/>
            <a:ext cx="3162240" cy="199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2050920" y="32432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AnimalCellColor"/>
          <p:cNvPicPr/>
          <p:nvPr/>
        </p:nvPicPr>
        <p:blipFill>
          <a:blip r:embed="rId2"/>
          <a:stretch/>
        </p:blipFill>
        <p:spPr>
          <a:xfrm>
            <a:off x="320760" y="168120"/>
            <a:ext cx="2584440" cy="256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nteract08"/>
          <p:cNvPicPr/>
          <p:nvPr/>
        </p:nvPicPr>
        <p:blipFill>
          <a:blip r:embed="rId3"/>
          <a:srcRect l="0" t="22004" r="0" b="17523"/>
          <a:stretch/>
        </p:blipFill>
        <p:spPr>
          <a:xfrm>
            <a:off x="6227640" y="620640"/>
            <a:ext cx="261936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6"/>
          <p:cNvGraphicFramePr/>
          <p:nvPr/>
        </p:nvGraphicFramePr>
        <p:xfrm>
          <a:off x="3419640" y="260280"/>
          <a:ext cx="223668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260280"/>
                    <a:ext cx="223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7"/>
          <p:cNvGraphicFramePr/>
          <p:nvPr/>
        </p:nvGraphicFramePr>
        <p:xfrm>
          <a:off x="136440" y="4653000"/>
          <a:ext cx="3067200" cy="21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6440" y="4653000"/>
                    <a:ext cx="306720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19" descr="chromosome"/>
          <p:cNvPicPr/>
          <p:nvPr/>
        </p:nvPicPr>
        <p:blipFill>
          <a:blip r:embed="rId8"/>
          <a:stretch/>
        </p:blipFill>
        <p:spPr>
          <a:xfrm>
            <a:off x="3348000" y="4724280"/>
            <a:ext cx="2120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268280"/>
          <a:ext cx="8229600" cy="493236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house of the ce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s energy (cellular respi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ir of cylinders that aid in 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-floating membrane-bound sac for st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chloropla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to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(plants), small (animals) membrane-bound sacs filled with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gor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Box 7"/>
          <p:cNvSpPr/>
          <p:nvPr/>
        </p:nvSpPr>
        <p:spPr>
          <a:xfrm>
            <a:off x="714240" y="35002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928800" y="5357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cu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268280"/>
          <a:ext cx="8229600" cy="462780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entre of the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 all of the cell’s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us double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s nucleus from cytoplas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ture of chemicals that stores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in nucleic 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body in the centre of the nucleus thought to make rib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7"/>
          <p:cNvSpPr/>
          <p:nvPr/>
        </p:nvSpPr>
        <p:spPr>
          <a:xfrm>
            <a:off x="2786040" y="4357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78588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2714760" y="2786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2714760" y="53578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00880" y="0"/>
            <a:ext cx="243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864-A21A-46E0-A915-52386578837E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1CB-DAB5-40B6-8749-DF6FC97B1C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Animal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1500120"/>
            <a:ext cx="498636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42920" y="135720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ntral 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has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 flipV="1">
            <a:off x="1928880" y="4000320"/>
            <a:ext cx="643320" cy="14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" name="Group 98"/>
          <p:cNvGrpSpPr/>
          <p:nvPr/>
        </p:nvGrpSpPr>
        <p:grpSpPr>
          <a:xfrm>
            <a:off x="3070800" y="4571640"/>
            <a:ext cx="1018800" cy="1357560"/>
            <a:chOff x="3070800" y="4571640"/>
            <a:chExt cx="1018800" cy="1357560"/>
          </a:xfrm>
        </p:grpSpPr>
        <p:cxnSp>
          <p:nvCxnSpPr>
            <p:cNvPr id="67" name="Straight Arrow Connector 8"/>
            <p:cNvCxnSpPr/>
            <p:nvPr/>
          </p:nvCxnSpPr>
          <p:spPr>
            <a:xfrm flipV="1">
              <a:off x="3070800" y="5071320"/>
              <a:ext cx="857880" cy="85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0"/>
            <p:cNvCxnSpPr/>
            <p:nvPr/>
          </p:nvCxnSpPr>
          <p:spPr>
            <a:xfrm flipV="1">
              <a:off x="3071880" y="4571640"/>
              <a:ext cx="101808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9" name="Straight Arrow Connector 12"/>
          <p:cNvCxnSpPr/>
          <p:nvPr/>
        </p:nvCxnSpPr>
        <p:spPr>
          <a:xfrm flipH="1">
            <a:off x="4500720" y="1499760"/>
            <a:ext cx="64332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8"/>
          <p:cNvCxnSpPr/>
          <p:nvPr/>
        </p:nvCxnSpPr>
        <p:spPr>
          <a:xfrm flipH="1" flipV="1">
            <a:off x="5214600" y="4285800"/>
            <a:ext cx="15724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2"/>
          <p:cNvCxnSpPr/>
          <p:nvPr/>
        </p:nvCxnSpPr>
        <p:spPr>
          <a:xfrm>
            <a:off x="3571920" y="1499760"/>
            <a:ext cx="7200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25"/>
          <p:cNvCxnSpPr/>
          <p:nvPr/>
        </p:nvCxnSpPr>
        <p:spPr>
          <a:xfrm flipV="1">
            <a:off x="2142720" y="4214520"/>
            <a:ext cx="17154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28"/>
          <p:cNvCxnSpPr/>
          <p:nvPr/>
        </p:nvCxnSpPr>
        <p:spPr>
          <a:xfrm flipH="1" flipV="1">
            <a:off x="6786360" y="3571200"/>
            <a:ext cx="107208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1"/>
          <p:cNvCxnSpPr/>
          <p:nvPr/>
        </p:nvCxnSpPr>
        <p:spPr>
          <a:xfrm flipH="1" flipV="1">
            <a:off x="6143040" y="3642840"/>
            <a:ext cx="85788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34"/>
          <p:cNvCxnSpPr/>
          <p:nvPr/>
        </p:nvCxnSpPr>
        <p:spPr>
          <a:xfrm>
            <a:off x="2643120" y="2286000"/>
            <a:ext cx="9295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4"/>
          <p:cNvCxnSpPr/>
          <p:nvPr/>
        </p:nvCxnSpPr>
        <p:spPr>
          <a:xfrm>
            <a:off x="1928520" y="3714840"/>
            <a:ext cx="786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53"/>
          <p:cNvCxnSpPr/>
          <p:nvPr/>
        </p:nvCxnSpPr>
        <p:spPr>
          <a:xfrm flipV="1">
            <a:off x="2142720" y="4214160"/>
            <a:ext cx="78660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56"/>
          <p:cNvCxnSpPr/>
          <p:nvPr/>
        </p:nvCxnSpPr>
        <p:spPr>
          <a:xfrm flipV="1">
            <a:off x="2214360" y="4714560"/>
            <a:ext cx="12862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57"/>
          <p:cNvCxnSpPr/>
          <p:nvPr/>
        </p:nvCxnSpPr>
        <p:spPr>
          <a:xfrm flipH="1">
            <a:off x="5928480" y="1643040"/>
            <a:ext cx="11437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9"/>
          <p:cNvCxnSpPr/>
          <p:nvPr/>
        </p:nvCxnSpPr>
        <p:spPr>
          <a:xfrm flipH="1">
            <a:off x="5428440" y="2000160"/>
            <a:ext cx="1715400" cy="121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61"/>
          <p:cNvCxnSpPr/>
          <p:nvPr/>
        </p:nvCxnSpPr>
        <p:spPr>
          <a:xfrm flipH="1">
            <a:off x="6071760" y="2786040"/>
            <a:ext cx="572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2" name="Group 95"/>
          <p:cNvGrpSpPr/>
          <p:nvPr/>
        </p:nvGrpSpPr>
        <p:grpSpPr>
          <a:xfrm>
            <a:off x="5428800" y="1357200"/>
            <a:ext cx="1000440" cy="1357560"/>
            <a:chOff x="5428800" y="1357200"/>
            <a:chExt cx="1000440" cy="1357560"/>
          </a:xfrm>
        </p:grpSpPr>
        <p:cxnSp>
          <p:nvCxnSpPr>
            <p:cNvPr id="83" name="Straight Arrow Connector 11"/>
            <p:cNvCxnSpPr/>
            <p:nvPr/>
          </p:nvCxnSpPr>
          <p:spPr>
            <a:xfrm flipH="1">
              <a:off x="5428800" y="1357200"/>
              <a:ext cx="100080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5499720" y="2071800"/>
              <a:ext cx="28620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5" name="TextBox 74"/>
          <p:cNvSpPr/>
          <p:nvPr/>
        </p:nvSpPr>
        <p:spPr>
          <a:xfrm>
            <a:off x="642960" y="5429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5"/>
          <p:cNvSpPr/>
          <p:nvPr/>
        </p:nvSpPr>
        <p:spPr>
          <a:xfrm>
            <a:off x="2214720" y="60008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6"/>
          <p:cNvSpPr/>
          <p:nvPr/>
        </p:nvSpPr>
        <p:spPr>
          <a:xfrm>
            <a:off x="142920" y="46432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0"/>
          <p:cNvSpPr/>
          <p:nvPr/>
        </p:nvSpPr>
        <p:spPr>
          <a:xfrm>
            <a:off x="1214280" y="507204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214200" y="40006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3"/>
          <p:cNvSpPr/>
          <p:nvPr/>
        </p:nvSpPr>
        <p:spPr>
          <a:xfrm>
            <a:off x="142920" y="34290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5"/>
          <p:cNvSpPr/>
          <p:nvPr/>
        </p:nvSpPr>
        <p:spPr>
          <a:xfrm>
            <a:off x="6643800" y="50007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6"/>
          <p:cNvSpPr/>
          <p:nvPr/>
        </p:nvSpPr>
        <p:spPr>
          <a:xfrm>
            <a:off x="6715080" y="421488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7"/>
          <p:cNvSpPr/>
          <p:nvPr/>
        </p:nvSpPr>
        <p:spPr>
          <a:xfrm>
            <a:off x="7786800" y="3571920"/>
            <a:ext cx="121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9"/>
          <p:cNvSpPr/>
          <p:nvPr/>
        </p:nvSpPr>
        <p:spPr>
          <a:xfrm>
            <a:off x="6572160" y="242892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0"/>
          <p:cNvSpPr/>
          <p:nvPr/>
        </p:nvSpPr>
        <p:spPr>
          <a:xfrm>
            <a:off x="7072200" y="178596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1"/>
          <p:cNvSpPr/>
          <p:nvPr/>
        </p:nvSpPr>
        <p:spPr>
          <a:xfrm>
            <a:off x="6929280" y="135720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2"/>
          <p:cNvSpPr/>
          <p:nvPr/>
        </p:nvSpPr>
        <p:spPr>
          <a:xfrm>
            <a:off x="6072120" y="1000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2"/>
          <p:cNvSpPr/>
          <p:nvPr/>
        </p:nvSpPr>
        <p:spPr>
          <a:xfrm>
            <a:off x="4429080" y="1071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4"/>
          <p:cNvSpPr/>
          <p:nvPr/>
        </p:nvSpPr>
        <p:spPr>
          <a:xfrm>
            <a:off x="2500200" y="11430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2"/>
          <p:cNvSpPr/>
          <p:nvPr/>
        </p:nvSpPr>
        <p:spPr>
          <a:xfrm>
            <a:off x="2143080" y="19288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29C-EFFD-4F53-8BA5-CE2F23DBB785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F3D-B849-45AB-A49F-A381B10A83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nt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14720" y="1428840"/>
            <a:ext cx="46479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42920" y="135720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a large central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no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8"/>
          <p:cNvCxnSpPr/>
          <p:nvPr/>
        </p:nvCxnSpPr>
        <p:spPr>
          <a:xfrm>
            <a:off x="1928520" y="414288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1"/>
          <p:cNvCxnSpPr/>
          <p:nvPr/>
        </p:nvCxnSpPr>
        <p:spPr>
          <a:xfrm flipV="1">
            <a:off x="3071880" y="4714200"/>
            <a:ext cx="1000800" cy="1215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12"/>
          <p:cNvCxnSpPr/>
          <p:nvPr/>
        </p:nvCxnSpPr>
        <p:spPr>
          <a:xfrm flipH="1">
            <a:off x="4785840" y="1500120"/>
            <a:ext cx="8582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3"/>
          <p:cNvCxnSpPr/>
          <p:nvPr/>
        </p:nvCxnSpPr>
        <p:spPr>
          <a:xfrm flipH="1" flipV="1">
            <a:off x="5857200" y="4071600"/>
            <a:ext cx="114372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4"/>
          <p:cNvCxnSpPr/>
          <p:nvPr/>
        </p:nvCxnSpPr>
        <p:spPr>
          <a:xfrm>
            <a:off x="2000160" y="3785760"/>
            <a:ext cx="8582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6"/>
          <p:cNvCxnSpPr/>
          <p:nvPr/>
        </p:nvCxnSpPr>
        <p:spPr>
          <a:xfrm>
            <a:off x="1999800" y="3285720"/>
            <a:ext cx="135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7"/>
          <p:cNvCxnSpPr>
            <a:stCxn id="113" idx="1"/>
          </p:cNvCxnSpPr>
          <p:nvPr/>
        </p:nvCxnSpPr>
        <p:spPr>
          <a:xfrm flipH="1" flipV="1">
            <a:off x="6000480" y="3428640"/>
            <a:ext cx="100080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2285640" y="4357080"/>
            <a:ext cx="5007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9"/>
          <p:cNvCxnSpPr/>
          <p:nvPr/>
        </p:nvCxnSpPr>
        <p:spPr>
          <a:xfrm flipH="1" flipV="1">
            <a:off x="5643000" y="5000040"/>
            <a:ext cx="5720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20"/>
          <p:cNvCxnSpPr/>
          <p:nvPr/>
        </p:nvCxnSpPr>
        <p:spPr>
          <a:xfrm>
            <a:off x="4070880" y="1428840"/>
            <a:ext cx="14364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21"/>
          <p:cNvCxnSpPr>
            <a:stCxn id="118" idx="1"/>
          </p:cNvCxnSpPr>
          <p:nvPr/>
        </p:nvCxnSpPr>
        <p:spPr>
          <a:xfrm flipH="1">
            <a:off x="5285880" y="2215080"/>
            <a:ext cx="1286640" cy="49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9" name="Group 22"/>
          <p:cNvGrpSpPr/>
          <p:nvPr/>
        </p:nvGrpSpPr>
        <p:grpSpPr>
          <a:xfrm>
            <a:off x="5000400" y="1785600"/>
            <a:ext cx="1000440" cy="786600"/>
            <a:chOff x="5000400" y="1785600"/>
            <a:chExt cx="1000440" cy="786600"/>
          </a:xfrm>
        </p:grpSpPr>
        <p:cxnSp>
          <p:nvCxnSpPr>
            <p:cNvPr id="120" name="Straight Arrow Connector 23"/>
            <p:cNvCxnSpPr/>
            <p:nvPr/>
          </p:nvCxnSpPr>
          <p:spPr>
            <a:xfrm flipH="1">
              <a:off x="5000400" y="1785600"/>
              <a:ext cx="1000800" cy="66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Straight Arrow Connector 24"/>
            <p:cNvCxnSpPr/>
            <p:nvPr/>
          </p:nvCxnSpPr>
          <p:spPr>
            <a:xfrm flipH="1">
              <a:off x="5071320" y="2200320"/>
              <a:ext cx="286200" cy="37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2" name="TextBox 25"/>
          <p:cNvSpPr/>
          <p:nvPr/>
        </p:nvSpPr>
        <p:spPr>
          <a:xfrm>
            <a:off x="7072200" y="50007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1071720" y="571500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285840" y="44290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7000920" y="342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680" y="3929040"/>
            <a:ext cx="15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5643720" y="607212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858000" y="42148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6572160" y="2000160"/>
            <a:ext cx="25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714240" y="3000240"/>
            <a:ext cx="121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2143080" y="1071720"/>
            <a:ext cx="157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5429160" y="114300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3500280" y="107172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5857920" y="15001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9"/>
          <p:cNvSpPr/>
          <p:nvPr/>
        </p:nvSpPr>
        <p:spPr>
          <a:xfrm>
            <a:off x="357120" y="35719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6"/>
          <p:cNvCxnSpPr/>
          <p:nvPr/>
        </p:nvCxnSpPr>
        <p:spPr>
          <a:xfrm>
            <a:off x="3571920" y="1714320"/>
            <a:ext cx="35784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15"/>
          <p:cNvCxnSpPr/>
          <p:nvPr/>
        </p:nvCxnSpPr>
        <p:spPr>
          <a:xfrm flipH="1" flipV="1">
            <a:off x="5928840" y="4572000"/>
            <a:ext cx="12866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s of a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o you remembe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 all books and notes 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983-1751-43B7-B0FE-3EA6C1CD9CDF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3D8-C7DD-4550-B25D-9A0549CDE0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4372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429160" y="53578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0080" y="5429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43720" y="2143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71720" y="492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71720" y="4429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25636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000080" y="30002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000080" y="16430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000080" y="25718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000080" y="20718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643720" y="30718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    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4920" y="1684440"/>
            <a:ext cx="4464000" cy="418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572000" y="1587600"/>
            <a:ext cx="4541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43912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with a partner!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small checkmark next to the correct answ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ir score out of 20 in the right hand corn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971640" y="1641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7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25970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71640" y="3063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71640" y="4503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971640" y="49737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71640" y="544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65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651640" y="310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65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5651640" y="5408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65164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C:\Program Files\Microsoft Office\MEDIA\OFFICE11\Bullets\BD21301_.gif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C:\Program Files\Microsoft Office\MEDIA\OFFICE11\Bullets\BD21301_.gif"/>
          <p:cNvPicPr/>
          <p:nvPr/>
        </p:nvPicPr>
        <p:blipFill>
          <a:blip r:embed="rId2"/>
          <a:stretch/>
        </p:blipFill>
        <p:spPr>
          <a:xfrm>
            <a:off x="187200" y="1571760"/>
            <a:ext cx="3574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442-021B-45BC-B7DD-8065695F2618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568-FC19-45F3-89D9-6A3E35348C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24000" y="1341360"/>
            <a:ext cx="849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s are the bas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its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different kinds of cells, which are specialized to carry out particula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pite of this, cells have many common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Neuron"/>
          <p:cNvPicPr/>
          <p:nvPr/>
        </p:nvPicPr>
        <p:blipFill>
          <a:blip r:embed="rId1"/>
          <a:stretch/>
        </p:blipFill>
        <p:spPr>
          <a:xfrm>
            <a:off x="108000" y="4334040"/>
            <a:ext cx="3213000" cy="2408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White%20Blood%20Cell"/>
          <p:cNvPicPr/>
          <p:nvPr/>
        </p:nvPicPr>
        <p:blipFill>
          <a:blip r:embed="rId2"/>
          <a:srcRect l="0" t="0" r="0" b="4105"/>
          <a:stretch/>
        </p:blipFill>
        <p:spPr>
          <a:xfrm>
            <a:off x="3459240" y="4292640"/>
            <a:ext cx="2552760" cy="24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Bacteria"/>
          <p:cNvPicPr/>
          <p:nvPr/>
        </p:nvPicPr>
        <p:blipFill>
          <a:blip r:embed="rId3"/>
          <a:srcRect l="0" t="0" r="20228" b="12354"/>
          <a:stretch/>
        </p:blipFill>
        <p:spPr>
          <a:xfrm>
            <a:off x="6157800" y="4311720"/>
            <a:ext cx="295128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268280"/>
          <a:ext cx="8229600" cy="516096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perme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what enters/le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ed of phospholipid bilayer,   proteins, 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id mosaic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gh rigid outer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sol (aqueous solution) and cell organelles outside the nucleus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Box 7"/>
          <p:cNvSpPr/>
          <p:nvPr/>
        </p:nvSpPr>
        <p:spPr>
          <a:xfrm>
            <a:off x="2786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2786040" y="45720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928800" y="60008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2857680" y="59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357960" y="142920"/>
            <a:ext cx="2359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765000"/>
          <a:ext cx="8229600" cy="560232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endoplasmic reticulum (S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throughout cytoplasm to transport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f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with ribosomes attached (area for protein synthes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s of membranes which modify protein for secretion (expo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s them into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enzymes (proteins) that can break down molecules (food, bacteria, wastes, the cell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Box 7"/>
          <p:cNvSpPr/>
          <p:nvPr/>
        </p:nvSpPr>
        <p:spPr>
          <a:xfrm>
            <a:off x="714240" y="31575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h endoplasmic reticulum (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714760" y="3571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2857680" y="47862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15080" y="0"/>
            <a:ext cx="2217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55:15Z</dcterms:created>
  <dc:creator>OCDSB User</dc:creator>
  <dc:description/>
  <dc:language>en-US</dc:language>
  <cp:lastModifiedBy>mobilef</cp:lastModifiedBy>
  <dcterms:modified xsi:type="dcterms:W3CDTF">2013-03-12T20:23:09Z</dcterms:modified>
  <cp:revision>8</cp:revision>
  <dc:subject/>
  <dc:title>Slide 1</dc:title>
</cp:coreProperties>
</file>